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661967"/>
        <c:axId val="75247702"/>
      </c:barChart>
      <c:catAx>
        <c:axId val="176619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47702"/>
        <c:crosses val="autoZero"/>
        <c:auto val="1"/>
        <c:lblAlgn val="ctr"/>
        <c:lblOffset val="100"/>
        <c:noMultiLvlLbl val="0"/>
      </c:catAx>
      <c:valAx>
        <c:axId val="752477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619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3BB6-C976-42D9-8200-5FEB46B9C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4EAE-4005-4EFF-BBB4-A8F9D9BB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FD58-2A78-4B46-90BE-32A220C80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1661-88F6-4936-BDDA-1726DF577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428C-4894-4496-9E43-AF4BC701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8CAD-2150-4D36-A997-F128B319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FE53-4CC2-4FB9-B894-5ADEB320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FEBC-E435-4EBA-8EBB-862F7944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A6A6-7E61-4E8E-B506-FF796DEF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74BF-C67A-4BA4-919C-06CB0385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F194-CD55-4A50-A913-E4F170D5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49E0-5A2A-4F54-BBB7-B336429E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C357B-0B8A-4505-8861-B0A201ED00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