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05435"/>
        <c:axId val="93842383"/>
      </c:barChart>
      <c:catAx>
        <c:axId val="96305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2383"/>
        <c:crosses val="autoZero"/>
        <c:auto val="1"/>
        <c:lblAlgn val="ctr"/>
        <c:lblOffset val="100"/>
        <c:noMultiLvlLbl val="0"/>
      </c:catAx>
      <c:valAx>
        <c:axId val="93842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05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92E-8B06-4330-AA49-A3BD96F8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F4C-1373-433A-8DBE-01D0F879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002-DB79-4121-B816-323DCB29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144-95F5-4907-A4B9-A8DEF90D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AD1-C9EF-4880-9359-1A3822A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D9E-0C3D-4073-BBBF-BC42BD6F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59B-ACB7-4FC5-85D0-CB66443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250-87C3-445F-9897-89D9F8CA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DBE-35F3-4678-B80F-337B4E5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420-E288-41A9-B849-FBD181F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595-3A2A-4009-8A38-2D26BF4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A78-89BC-45AC-98EF-D76EE60A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E2881-139C-4C7D-9132-A96285C203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