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64860"/>
        <c:axId val="28011211"/>
      </c:barChart>
      <c:catAx>
        <c:axId val="674648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11211"/>
        <c:crosses val="autoZero"/>
        <c:auto val="1"/>
        <c:lblAlgn val="ctr"/>
        <c:lblOffset val="100"/>
        <c:noMultiLvlLbl val="0"/>
      </c:catAx>
      <c:valAx>
        <c:axId val="2801121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648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C5E1-E4F1-4E84-8D27-BB1BFAB74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68BC-D60D-4FF7-97BD-9D19A10F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6856-96F4-4116-A1B3-5A079783D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46AD-454F-42DA-8DAD-0D1C6B08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DCF-C418-45C1-8004-580F2039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34A4-2DF8-4F59-95F1-A46CBAA47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FF89-FCC6-4579-B218-5B4C47EE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AEB46-98A4-410D-9D87-EB5AC9E2D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A1D6-7B6E-4F95-84F4-4B5E51834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D1E8-1A5B-4593-BF20-7348CF496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FEDF-4F1E-482D-B256-FF3D2186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3364-1D06-4F32-B5E6-6C901A3E3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8EE4A4-9B2A-4E9B-A550-244F777DCAF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