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923846"/>
        <c:axId val="86126011"/>
      </c:barChart>
      <c:catAx>
        <c:axId val="35923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26011"/>
        <c:crosses val="autoZero"/>
        <c:auto val="1"/>
        <c:lblAlgn val="ctr"/>
        <c:lblOffset val="100"/>
        <c:noMultiLvlLbl val="0"/>
      </c:catAx>
      <c:valAx>
        <c:axId val="861260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23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F37E-69C0-4A2D-BF23-120FF36A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811-9914-4F8A-BA7A-CDF79CF5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5E92-A308-4305-8529-3E21F602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0DDA-B87D-47CB-A4D8-A5514E14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869-A448-4F33-9EA0-31225841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3BA-5ACA-4D6F-9249-F930ED0D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D916-359E-4259-B906-38809DE6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1E43-851F-4F60-83EA-A1731523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0D6E-05DC-46D2-AB4C-94C190E0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A96-790A-4D17-A42A-1B861C14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3399-6604-4B6F-99EB-45D86F50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6CB-2A00-4681-AD6A-6BF79007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B0AA3-918F-4260-98A1-7C471D94C9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