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1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048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3900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276800" y="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0" y="10158480"/>
            <a:ext cx="32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1"/>
          </p:nvPr>
        </p:nvSpPr>
        <p:spPr>
          <a:xfrm>
            <a:off x="4276440" y="10158120"/>
            <a:ext cx="327348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68A394-554A-43D8-AF6D-3F7C0FA783F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4276800" y="10158480"/>
            <a:ext cx="3273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E21ECC-79A2-4375-B459-CF549A3925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"/>
          <p:cNvSpPr/>
          <p:nvPr/>
        </p:nvSpPr>
        <p:spPr>
          <a:xfrm>
            <a:off x="4276800" y="10158480"/>
            <a:ext cx="3276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200A7-48CE-462F-A3DF-28B9E9F6E6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04840" y="800280"/>
            <a:ext cx="5346720" cy="40096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1006200" y="5078160"/>
            <a:ext cx="5543640" cy="48099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o be clear, when VMware talks about this major shift happening within the enterprise, it is about the fundamental shift of IT from one that focuses on the production of IT services to a focus on how the business needs to consume those servi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The effect of this is a changing view of IT from the traditional view of a cost center to one of value crea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4281480" y="10158480"/>
            <a:ext cx="3274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15640D-E441-4B29-8A15-0A908BF039B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510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5240" y="155376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68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510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5240" y="3878280"/>
            <a:ext cx="243216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84240" y="255600"/>
            <a:ext cx="744048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7560" y="387828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684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7560" y="1553760"/>
            <a:ext cx="368604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6840" y="3878280"/>
            <a:ext cx="7553520" cy="212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8558280" y="196920"/>
            <a:ext cx="420480" cy="450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84240" y="255600"/>
            <a:ext cx="7440480" cy="98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45556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96840" y="1553760"/>
            <a:ext cx="7553520" cy="44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8000"/>
              </a:lnSpc>
              <a:spcAft>
                <a:spcPts val="86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1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2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3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4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5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  <a:p>
            <a:pPr lvl="6" marL="343080" indent="-343080">
              <a:lnSpc>
                <a:spcPct val="98000"/>
              </a:lnSpc>
              <a:spcAft>
                <a:spcPts val="86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5556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5556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914400" y="6410160"/>
            <a:ext cx="5769000" cy="2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900" spc="-1" strike="noStrike">
                <a:solidFill>
                  <a:srgbClr val="6b6b6b"/>
                </a:solidFill>
                <a:latin typeface="Arial"/>
              </a:rPr>
              <a:t>©  Novell, Inc.  All rights reserved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>
            <a:off x="388800" y="6373800"/>
            <a:ext cx="381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A09499-B1F6-4C53-8710-6C22348F5C1A}" type="slidenum">
              <a:rPr b="1" lang="en-GB" sz="1200" spc="-1" strike="noStrike" baseline="1000">
                <a:solidFill>
                  <a:srgbClr val="3c3c4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001880" y="0"/>
            <a:ext cx="7086600" cy="220680"/>
            <a:chOff x="1001880" y="0"/>
            <a:chExt cx="7086600" cy="220680"/>
          </a:xfrm>
        </p:grpSpPr>
        <p:sp>
          <p:nvSpPr>
            <p:cNvPr id="6" name="AutoShape 7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1001880" y="0"/>
              <a:ext cx="7086600" cy="220680"/>
            </a:xfrm>
            <a:prstGeom prst="roundRect">
              <a:avLst>
                <a:gd name="adj" fmla="val 713"/>
              </a:avLst>
            </a:prstGeom>
            <a:solidFill>
              <a:srgbClr val="00a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2400" spc="-1" strike="noStrike">
                  <a:solidFill>
                    <a:srgbClr val="3c3c41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95680" y="2133720"/>
            <a:ext cx="360072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Optimizing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p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7ac142"/>
                </a:solidFill>
                <a:latin typeface="Arial"/>
                <a:ea typeface="Lucida Sans Unicode"/>
              </a:rPr>
              <a:t>for IT </a:t>
            </a:r>
            <a:r>
              <a:rPr b="1" i="1" lang="en-US" sz="4400" spc="-1" strike="noStrike">
                <a:solidFill>
                  <a:srgbClr val="546291"/>
                </a:solidFill>
                <a:latin typeface="Arial"/>
                <a:ea typeface="Lucida Sans Unicode"/>
              </a:rPr>
              <a:t>con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390840" y="276696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9600" spc="-1" strike="noStrike">
                <a:solidFill>
                  <a:srgbClr val="546291"/>
                </a:solidFill>
                <a:latin typeface="Arial"/>
                <a:ea typeface="Lucida Sans Unicode"/>
              </a:rPr>
              <a:t>=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849240" y="2550960"/>
            <a:ext cx="2417760" cy="20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IT </a:t>
            </a:r>
            <a:br>
              <a:rPr sz="4800"/>
            </a:br>
            <a:r>
              <a:rPr b="1" lang="en-US" sz="4800" spc="-1" strike="noStrike">
                <a:solidFill>
                  <a:srgbClr val="455560"/>
                </a:solidFill>
                <a:latin typeface="Arial"/>
                <a:ea typeface="Lucida Sans Unicode"/>
              </a:rPr>
              <a:t>as a Servi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001880" y="160812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1001880" y="5180040"/>
            <a:ext cx="7094520" cy="1440"/>
          </a:xfrm>
          <a:prstGeom prst="line">
            <a:avLst/>
          </a:prstGeom>
          <a:ln w="28440">
            <a:solidFill>
              <a:srgbClr val="e4e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  <p:tav tm="-1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rin</dc:creator>
  <dc:description>Template Version 10:  9/18/08</dc:description>
  <dc:language>en-US</dc:language>
  <cp:lastModifiedBy>karthikgodha@outlook.com</cp:lastModifiedBy>
  <dcterms:modified xsi:type="dcterms:W3CDTF">2025-10-31T02:21:17Z</dcterms:modified>
  <cp:revision>123</cp:revision>
  <dc:subject/>
  <dc:title>Novell Corporate Presentation Template 2009 - blue</dc:title>
</cp:coreProperties>
</file>