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567117"/>
        <c:axId val="24755685"/>
      </c:barChart>
      <c:catAx>
        <c:axId val="685671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755685"/>
        <c:crosses val="autoZero"/>
        <c:auto val="1"/>
        <c:lblAlgn val="ctr"/>
        <c:lblOffset val="100"/>
        <c:noMultiLvlLbl val="0"/>
      </c:catAx>
      <c:valAx>
        <c:axId val="247556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5671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4B1D7-E2FB-4B29-9407-C73FE9B28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0DAB-609A-4166-A00D-9AF03F6CB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3955-787C-4200-94D3-D9138AA8A5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CFE-2F07-475D-8B47-D76987378E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686-74DC-47C0-9B58-0FC4E2563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131-AC66-4482-AD8C-489E6AE896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95B5-AF29-4527-8BAC-C49AF8E64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C84BB-6049-47EE-A16F-B0159226A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3B75-AE93-431F-B86C-A5139569C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3B616-B0E9-4AF7-B6FE-53BE23E05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C2C5C-D538-47F6-BD23-F24984497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6791-D6B4-451B-9E6A-5D45DEA46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61DFD-6958-4C45-B19D-F7E6C193802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