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287"/>
        <c:axId val="77099829"/>
      </c:barChart>
      <c:catAx>
        <c:axId val="2191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99829"/>
        <c:crosses val="autoZero"/>
        <c:auto val="1"/>
        <c:lblAlgn val="ctr"/>
        <c:lblOffset val="100"/>
        <c:noMultiLvlLbl val="0"/>
      </c:catAx>
      <c:valAx>
        <c:axId val="77099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EC3-7144-4B52-838E-CEE0BBF3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182-F230-456E-AC56-FA6F3F2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A8E-D7D7-478E-95FE-3AA8F18A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A13-32AB-4BAB-8784-21EBD787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BF6-EE13-4010-BB12-1F7061F7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47D-10B6-4682-8D09-9637EDA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2E0-2530-4001-ABBC-E857F9C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AE0-D2F2-48BE-BBF2-E768829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D8B-CD57-4FAC-9328-8DCE60D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AA8-356D-4EF9-BB13-8256009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86D-78DC-4227-978A-CA734BF3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E5D-38B2-4653-B562-418DF31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469F6-63AF-4AFE-91DA-7F6AF5F10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