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03262"/>
        <c:axId val="74690642"/>
      </c:barChart>
      <c:catAx>
        <c:axId val="52203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90642"/>
        <c:crosses val="autoZero"/>
        <c:auto val="1"/>
        <c:lblAlgn val="ctr"/>
        <c:lblOffset val="100"/>
        <c:noMultiLvlLbl val="0"/>
      </c:catAx>
      <c:valAx>
        <c:axId val="74690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03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FED-C08D-419C-A478-66857ABE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E34-C05E-4DD7-B02B-6B99311C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75A-B028-4427-A234-969B4076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6BA-0AEF-4C65-A484-1D7F62DC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8AE-1F2A-4DB2-BD05-3BA1C67C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DD9-0516-4FAE-9530-F6930CB0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089-BE90-4DBF-BEF9-9100BE18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DF5-E87D-4075-A724-65B84306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CCE-5BF7-414F-9C9F-EB3F9ED9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1E1-B3FB-425A-BAED-862A6025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F02-AC41-418D-B2C0-9F5D1CA0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D41-3B46-4258-96B1-B61FD51C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71B0F-B060-4133-92CC-4732E8E6D1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