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10854"/>
        <c:axId val="66053648"/>
      </c:barChart>
      <c:catAx>
        <c:axId val="69610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53648"/>
        <c:crosses val="autoZero"/>
        <c:auto val="1"/>
        <c:lblAlgn val="ctr"/>
        <c:lblOffset val="100"/>
        <c:noMultiLvlLbl val="0"/>
      </c:catAx>
      <c:valAx>
        <c:axId val="66053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10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D4F-F961-4E46-A6CF-414C59B9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AB8-C620-467E-9218-00A40649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1F4-3C29-408B-B798-CF239F66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44C-6564-4991-8903-CB09A845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227-5864-4A8E-ACFA-DEC836F8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A2A-2BD4-4E61-8542-14A65E74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C99-DAD6-426D-A961-D26CEA34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35B-6CD3-432A-88E5-386989FF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D49-7B5E-4D2C-8256-3887F428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621-31D0-4836-9EC8-CC3849F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A63-69BC-47FA-B544-E915163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E5B-2EE8-4D2A-AA2E-90BF4FEE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B4922-D398-4C9A-98FF-D31562F666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