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00340"/>
        <c:axId val="68760160"/>
      </c:barChart>
      <c:catAx>
        <c:axId val="55900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0160"/>
        <c:crosses val="autoZero"/>
        <c:auto val="1"/>
        <c:lblAlgn val="ctr"/>
        <c:lblOffset val="100"/>
        <c:noMultiLvlLbl val="0"/>
      </c:catAx>
      <c:valAx>
        <c:axId val="68760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00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F69-460B-478A-85C2-6A3DF515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8A5-EC20-43B2-B2F9-CFECB82C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536-DC0D-4A7E-86A9-580DAC96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B4E-0379-4BFF-9427-5244AB0C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0EF-F754-44C9-A326-9711E576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464-3611-4266-8746-93AAB8F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467-95F2-4F40-B9A9-C2397D84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6AC-C389-4B1D-83C4-D14A7AE6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6C3-DF03-4612-9548-38D3574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778-A580-479F-96B1-F4CCC7FC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FAB-10D3-4C96-A232-B37F72D4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AEB-8120-44E1-9C64-E0821E0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2181A-C2F3-4C5F-AEBD-D7337A4A53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