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677744"/>
        <c:axId val="49006285"/>
      </c:barChart>
      <c:catAx>
        <c:axId val="326777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06285"/>
        <c:crosses val="autoZero"/>
        <c:auto val="1"/>
        <c:lblAlgn val="ctr"/>
        <c:lblOffset val="100"/>
        <c:noMultiLvlLbl val="0"/>
      </c:catAx>
      <c:valAx>
        <c:axId val="490062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777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DDD8-23E8-49E2-9E2E-A7FD3433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8534-61F0-4E60-810B-34FCD3E1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FEB2-FA8B-4C81-B1BB-A6BD89D7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1F93-2636-4703-A67E-32BA2E43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588-00AA-40F5-8EAC-14AD1EA7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FB9B-208A-4DE3-A259-49A3654A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BC60-D2DA-4C42-B937-B9CDD8F4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4342-21FD-411C-9D07-BBB69283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BC0B-D3C4-4944-9EAB-65CF6379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A802-A7D3-4BA2-9A96-A76CADBB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C2B1-E51F-49AE-A399-AF45F560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D904-FAD6-4A81-8508-6A669CCF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14923-2D0E-4B5C-B18D-D1E2BC7E1F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