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54271"/>
        <c:axId val="80754885"/>
      </c:barChart>
      <c:catAx>
        <c:axId val="51754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54885"/>
        <c:crosses val="autoZero"/>
        <c:auto val="1"/>
        <c:lblAlgn val="ctr"/>
        <c:lblOffset val="100"/>
        <c:noMultiLvlLbl val="0"/>
      </c:catAx>
      <c:valAx>
        <c:axId val="80754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4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BE3-9745-4CB5-B033-64AD5FB6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095-07EE-4843-B83A-4CE10171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CAF-CA81-4FA7-9986-1743B7B1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1AB-5037-482E-897D-492D8553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D5B-5445-40EF-B4C6-00D12A3F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A6A-50FC-4721-B979-E402A70E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BE3-431E-4780-A124-A75B1493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A65-F86E-4B07-AFDB-FB7BB64C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DC2-9F3B-40F2-9012-5D67EB48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794-7551-4D93-BE3F-60BE7190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AEE-98F7-41E1-B775-7879C7C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461-14F7-4611-A932-B2067E15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C0E92-D56F-4536-8B0E-424FCC433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